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50B2-4676-4C31-9C0F-1DF1D20CE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CF5B-9FD0-4D10-B09B-19B570F6B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5E33-30D6-4486-A467-2AF651E00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s the results of several studies that address a set of related research hypothe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s true “effect siz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eakn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s if the results are more varied t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follows the rules of hard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for generalization to the population of stu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nly statistical examination of scientific studies, not an actual scientific study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for between-study var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bias are not contro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higher statistical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vy reliance on published studies, which may create exaggerated outc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mpson’s Parado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two smaller studies may point in one direction, and the combination study in the opposite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stimate the true “effect size” as opposed to a smaller “effect size” derived in a single study under a single set of assumptions and condi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952C-A8E3-44AD-905E-9237F2F22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:20-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9F0C-59F7-4929-B66B-26D9C59CF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ill be our baseline- it could also possibly used as a pre-test.  In a real experiment, you would do this repetitively at the sam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roups in real-life should be randomly assigned as much as 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real world, you may want to do your experiment several times depending on your research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3DE6-8FDF-4748-9D3F-C131C50A6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ime constraints we are collecting ordinal data (greater than, less than, or stays the same); otherwise, we would be collecting quantitative data using a ratio scale (absolute 0- no heart beat and in equal increm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idity is affected by monitor sensitivity, and reliability may be affected by the individuals ability to take the measurement using the moni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4C27-A1FB-4125-AFB2-EA80A08AC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al group - did squat ju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group - remained s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variable - activity/exercise (seated vs. squat jump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variable - measured/observed heart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founding variable - heart size, individual endurance, recovery rate ability, intensity of exercise/effort (squat jump/sit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F4C2-0227-4026-81E4-BF5A94C67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Randomly assign participants to two groups: experimental group and contro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249A-5D2C-4500-8F0D-1716C8831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 loss diet p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1AA7-C89B-4D0D-9554-25EADC9BE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strate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FE4E-AFCB-411F-9AEF-F60FE7AAF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- quality/characteristic in a research investigation that may have more than 2 possi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exercise: running, lifting weights, swi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3565-2CF9-4F57-9996-7929AB619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 loss diet p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For cofounding variable, add food items to the pictures i.e. McDonald’s for the no pill group and salad for the placebo group; cofounding variables make it hard to draw conclusions about cause and effect because we cannot isolate the cause of any patterns we obs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E468-E5CC-4A54-850F-D1D9D82F1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strate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founding variable (i.e. add Lexile scores and IQ patterns to each group to each group); cofounding variables make it hard to draw conclusions about cause and effect because we cannot isolate the cause of any patterns we obs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60C9-F0D9-4AFE-9E38-A1AF28C79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eep some thing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factor remains the same for all test participants, it can easily be excluded as a reason for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clude a contro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ives no intervention and is used to compare performance against the experiment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andomly assign people to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ake into account variables that cannot be contro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sess equivalence before the treatment with pret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when random assignment of groups is not possible. Could also us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atched pai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hich is finding pairs of subjects, one form each of the two groups, to comp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xpose participants to all experimental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study participants are subject to all experimental and control treatments of the experiment. Treatments are assessed independen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tistically control for confounding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ling for known variables through statistical techniqu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B211-EFFE-43E1-B87A-B69F9469F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EF9-5B37-4976-8D41-D283D329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900-5164-4CCF-A41B-81A6AA2A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F67-E74E-4D55-ADC4-04E748A9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D29-CEB3-43AC-A6B4-5DBABB22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272-0495-4059-903C-4F162571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C99-4460-4DAA-9425-217A695B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13F-E193-47B9-8F90-8F7D8E06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B5A-B8FF-47C6-9279-1A31C590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3F2-A4BC-423C-AC34-C57257B2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B57-E67C-425A-A923-7015DE15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68D-D1F2-41AA-A600-1E6FBFC3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08B2-E2DD-4692-96E0-DF1B730D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1B5D-A7B8-4D3F-A2EF-C935F358A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800600" y="2286000"/>
            <a:ext cx="4191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ith Carringt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lerie Nash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ith Nerby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athleen Olewinski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nya Wojciechowicz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144360" y="-784080"/>
            <a:ext cx="220032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144360" y="-784080"/>
            <a:ext cx="220032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14436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144360" y="-1461960"/>
            <a:ext cx="2286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144360" y="-1461960"/>
            <a:ext cx="2286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http://archive.computerhistory.org/resources/still-image/Claude_Shannon/claude_shannon.mouse_in_maze.102630790.lg.jpg"/>
          <p:cNvPicPr/>
          <p:nvPr/>
        </p:nvPicPr>
        <p:blipFill>
          <a:blip r:embed="rId1"/>
          <a:stretch/>
        </p:blipFill>
        <p:spPr>
          <a:xfrm>
            <a:off x="228600" y="1676520"/>
            <a:ext cx="4505400" cy="476244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5731560" y="632448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 740, Nov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table 10.1 #1.jpg"/>
          <p:cNvPicPr/>
          <p:nvPr/>
        </p:nvPicPr>
        <p:blipFill>
          <a:blip r:embed="rId1"/>
          <a:stretch/>
        </p:blipFill>
        <p:spPr>
          <a:xfrm>
            <a:off x="762120" y="-2743200"/>
            <a:ext cx="7446960" cy="102409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762120" y="-228600"/>
            <a:ext cx="7467480" cy="91440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Table 10.1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p. 243-24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7632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table 10.1 #2.jpg"/>
          <p:cNvPicPr/>
          <p:nvPr/>
        </p:nvPicPr>
        <p:blipFill>
          <a:blip r:embed="rId1"/>
          <a:stretch/>
        </p:blipFill>
        <p:spPr>
          <a:xfrm>
            <a:off x="1828800" y="-868320"/>
            <a:ext cx="5867280" cy="80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table 10.1 #3.jpg"/>
          <p:cNvPicPr/>
          <p:nvPr/>
        </p:nvPicPr>
        <p:blipFill>
          <a:blip r:embed="rId1"/>
          <a:stretch/>
        </p:blipFill>
        <p:spPr>
          <a:xfrm>
            <a:off x="0" y="1447920"/>
            <a:ext cx="9607680" cy="132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tle 1"/>
          <p:cNvSpPr/>
          <p:nvPr/>
        </p:nvSpPr>
        <p:spPr>
          <a:xfrm>
            <a:off x="457200" y="-7632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Experiment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re-Experimental Design: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forming a tentative hypothesis that should be followed up with more controlled studies” (p. 229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rue Experimental Desig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ministering different treatments to a single group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Quasi-Experimental Design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siders the variables that researchers are unable to control and cannot rule out as alternative explanations for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http://t0.gstatic.com/images?q=tbn:ANd9GcT3g1-TMzG5_J8Zp3sZR8-R61LGOp7FXC5QwsnWaaVPxNEGrBs&amp;t=1&amp;usg=__EBh4-N5qZ-HIR7HF-ZFuTdPDYP0="/>
          <p:cNvPicPr/>
          <p:nvPr/>
        </p:nvPicPr>
        <p:blipFill>
          <a:blip r:embed="rId1"/>
          <a:stretch/>
        </p:blipFill>
        <p:spPr>
          <a:xfrm>
            <a:off x="5410080" y="3048120"/>
            <a:ext cx="2895840" cy="2068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http://www.accountingweb.com/files/siftmedia-accountingwebus/images/hypodermic-needle01.jpg"/>
          <p:cNvPicPr/>
          <p:nvPr/>
        </p:nvPicPr>
        <p:blipFill>
          <a:blip r:embed="rId2"/>
          <a:stretch/>
        </p:blipFill>
        <p:spPr>
          <a:xfrm>
            <a:off x="533520" y="3048120"/>
            <a:ext cx="2778120" cy="2090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axisoflogic.com/artman/uploads/1/Garifuna_Community_Hospital_doctor_patient.JPG"/>
          <p:cNvPicPr/>
          <p:nvPr/>
        </p:nvPicPr>
        <p:blipFill>
          <a:blip r:embed="rId3"/>
          <a:stretch/>
        </p:blipFill>
        <p:spPr>
          <a:xfrm>
            <a:off x="3276720" y="3048120"/>
            <a:ext cx="2139840" cy="20872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15228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tle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-Post-Facto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he fac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4419720" y="1523880"/>
            <a:ext cx="4724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determine if causality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researcher “studies the possible effect of an environmental factor that has occurred prior to the study itself” (p. 2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7632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1" descr="http://t0.gstatic.com/images?q=tbn:ANd9GcSpCQFclAw5zDW1g2k0Ef0H9kE6sgRuy3HWPKJPhYov1bqVGEs&amp;t=1&amp;usg=__YQg57NISQUdV_wouVz0KNojY3LU="/>
          <p:cNvPicPr/>
          <p:nvPr/>
        </p:nvPicPr>
        <p:blipFill>
          <a:blip r:embed="rId1"/>
          <a:stretch/>
        </p:blipFill>
        <p:spPr>
          <a:xfrm>
            <a:off x="228600" y="1295280"/>
            <a:ext cx="36464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-Analy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http://www.sectorfej.net/wp-content/uploads/2010/06/paper-mess-300x299.jpg"/>
          <p:cNvPicPr/>
          <p:nvPr/>
        </p:nvPicPr>
        <p:blipFill>
          <a:blip r:embed="rId1"/>
          <a:stretch/>
        </p:blipFill>
        <p:spPr>
          <a:xfrm>
            <a:off x="2057400" y="9907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0" y="59436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bines the results of several stu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240" y="114300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ics and Integ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ponsible Condu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ormed Cons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e.g., Harmon, 201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www.nytimes.com/2010/04/25/weekinreview/25harmon.html?_r=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man Subjects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earch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earch Ab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RB Approval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blication/Peer Re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llaborative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UK-PRI Hit Squad"/>
          <p:cNvPicPr/>
          <p:nvPr/>
        </p:nvPicPr>
        <p:blipFill>
          <a:blip r:embed="rId1"/>
          <a:stretch/>
        </p:blipFill>
        <p:spPr>
          <a:xfrm>
            <a:off x="5410080" y="2590920"/>
            <a:ext cx="3330720" cy="38401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0" y="6477120"/>
            <a:ext cx="952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nal Stritch University. (2010)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ional review board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d from http://www.stritch.edu/irb.a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C:\Users\Kathy\Pictures\DNA Research Consent.jpg"/>
          <p:cNvPicPr/>
          <p:nvPr/>
        </p:nvPicPr>
        <p:blipFill>
          <a:blip r:embed="rId2"/>
          <a:stretch/>
        </p:blipFill>
        <p:spPr>
          <a:xfrm>
            <a:off x="6324480" y="971640"/>
            <a:ext cx="2514600" cy="14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 Collabo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1328760"/>
          <a:ext cx="7924680" cy="5300640"/>
        </p:xfrm>
        <a:graphic>
          <a:graphicData uri="http://schemas.openxmlformats.org/drawingml/2006/table">
            <a:tbl>
              <a:tblPr/>
              <a:tblGrid>
                <a:gridCol w="3962520"/>
                <a:gridCol w="396216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nef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allen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ened experimental appro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ferences in approa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disciplinary; new knowledge form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bility and account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 of new research str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ical iss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tise, methodology and re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li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ts and other funding opportun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closing potential conflicts of inte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Monitor Experime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123heartdiseasecenter.com/images/heart-beat.gif"/>
          <p:cNvPicPr/>
          <p:nvPr/>
        </p:nvPicPr>
        <p:blipFill>
          <a:blip r:embed="rId1"/>
          <a:stretch/>
        </p:blipFill>
        <p:spPr>
          <a:xfrm>
            <a:off x="4929120" y="5105520"/>
            <a:ext cx="4214880" cy="1523880"/>
          </a:xfrm>
          <a:prstGeom prst="rect">
            <a:avLst/>
          </a:prstGeom>
          <a:ln w="0">
            <a:noFill/>
          </a:ln>
        </p:spPr>
      </p:pic>
      <p:sp>
        <p:nvSpPr>
          <p:cNvPr id="126" name="Content Placeholder 2"/>
          <p:cNvSpPr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Ques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squat jumps change instantaneous heart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and record your resting heart rate using the moni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are in the </a:t>
            </a:r>
            <a:r>
              <a:rPr b="0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BLUE 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lease remain seated without moving as much as possible.  If you are in the </a:t>
            </a:r>
            <a:r>
              <a:rPr b="0" lang="en-US" sz="28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ORANGE 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lease do as many squat jumps as fast as possible in the time gi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and record your he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using the moni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f7964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Monitor Dat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458200" cy="4800600"/>
        </p:xfrm>
        <a:graphic>
          <a:graphicData uri="http://schemas.openxmlformats.org/drawingml/2006/table">
            <a:tbl>
              <a:tblPr/>
              <a:tblGrid>
                <a:gridCol w="2451240"/>
                <a:gridCol w="1892160"/>
                <a:gridCol w="2000160"/>
                <a:gridCol w="211464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art Rate Increas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art Rate Decreas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art Rate Stayed the S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Blu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Grou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79646"/>
                          </a:solidFill>
                          <a:latin typeface="Times New Roman"/>
                          <a:ea typeface="Times New Roman"/>
                        </a:rPr>
                        <a:t>Orang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79646"/>
                          </a:solidFill>
                          <a:latin typeface="Times New Roman"/>
                          <a:ea typeface="Times New Roman"/>
                        </a:rPr>
                        <a:t>Grou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7720" y="4266720"/>
            <a:ext cx="762012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test cause-and-effect relationships between variab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4.bp.blogspot.com/_JLW41DVVv0A/ScungPrGT2I/AAAAAAAAAMg/X3eSNTkJoHE/S220/monkey_scratching_head-106x116.jpg"/>
          <p:cNvPicPr/>
          <p:nvPr/>
        </p:nvPicPr>
        <p:blipFill>
          <a:blip r:embed="rId1"/>
          <a:stretch/>
        </p:blipFill>
        <p:spPr>
          <a:xfrm>
            <a:off x="3352680" y="1523880"/>
            <a:ext cx="251460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identify the following from the heart rate monitor activity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Group 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 the treatment or is experimented 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Grou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 NO treatment; NOT experimented 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variable 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item the researcher changed between the groups (often it is the treatment)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 vari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 thought to be influenced by the independent variable (is measured or observe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unding vari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ys the groups might be different in addition to the independent variab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80880" y="1600200"/>
            <a:ext cx="830592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nal Stritch University. (2010)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ional review boa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d from http://www.stritch.edu/irb.asp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on, A. (2010, April 24). Where’d you go with my DNA?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York Times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d from http://www.nytimes.com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/04/25/weekinreview/25harmon.html?_r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: Plann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esig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). Upper Saddle River, NJ: Pears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earch Gro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1397160"/>
          <a:ext cx="8534160" cy="5003640"/>
        </p:xfrm>
        <a:graphic>
          <a:graphicData uri="http://schemas.openxmlformats.org/drawingml/2006/table">
            <a:tbl>
              <a:tblPr/>
              <a:tblGrid>
                <a:gridCol w="2819160"/>
                <a:gridCol w="2870280"/>
                <a:gridCol w="2844720"/>
              </a:tblGrid>
              <a:tr h="25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rimental  (Treatment) Gro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cipates in an intervention” (p. 226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experimented on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or receives treat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ro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group that receives no intervention”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. 226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experimented on and receives NO treat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2" name="TextBox 5"/>
          <p:cNvSpPr/>
          <p:nvPr/>
        </p:nvSpPr>
        <p:spPr>
          <a:xfrm>
            <a:off x="76320" y="6477120"/>
            <a:ext cx="89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Group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 the treatment or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mented 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O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mented 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066680" y="15228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t p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4952880" y="152280"/>
            <a:ext cx="28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3.bp.blogspot.com/_czh5_XwO1Tg/SLT4JhwyaRI/AAAAAAAAAA8/6jEFLaf1EMo/s320/woman+taking+diet+pill.jpg"/>
          <p:cNvPicPr/>
          <p:nvPr/>
        </p:nvPicPr>
        <p:blipFill>
          <a:blip r:embed="rId1"/>
          <a:stretch/>
        </p:blipFill>
        <p:spPr>
          <a:xfrm>
            <a:off x="838080" y="1447920"/>
            <a:ext cx="3200400" cy="376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3.bp.blogspot.com/_czh5_XwO1Tg/SLT4JhwyaRI/AAAAAAAAAA8/6jEFLaf1EMo/s320/woman+taking+diet+pill.jpg"/>
          <p:cNvPicPr/>
          <p:nvPr/>
        </p:nvPicPr>
        <p:blipFill>
          <a:blip r:embed="rId2"/>
          <a:stretch/>
        </p:blipFill>
        <p:spPr>
          <a:xfrm>
            <a:off x="4724280" y="1447920"/>
            <a:ext cx="3200400" cy="3765600"/>
          </a:xfrm>
          <a:prstGeom prst="rect">
            <a:avLst/>
          </a:prstGeom>
          <a:ln w="0">
            <a:noFill/>
          </a:ln>
        </p:spPr>
      </p:pic>
      <p:sp>
        <p:nvSpPr>
          <p:cNvPr id="68" name="Oval 8"/>
          <p:cNvSpPr/>
          <p:nvPr/>
        </p:nvSpPr>
        <p:spPr>
          <a:xfrm>
            <a:off x="6019920" y="2971800"/>
            <a:ext cx="45720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0"/>
          <p:cNvSpPr/>
          <p:nvPr/>
        </p:nvSpPr>
        <p:spPr>
          <a:xfrm flipV="1">
            <a:off x="6085800" y="3038400"/>
            <a:ext cx="323640" cy="3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0" y="0"/>
            <a:ext cx="4114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ed Silent Reading (SS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3962520" y="0"/>
            <a:ext cx="487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www.sptimes.com/2007/05/03/images/large/ASecti_Housep_1584090.jpg"/>
          <p:cNvPicPr/>
          <p:nvPr/>
        </p:nvPicPr>
        <p:blipFill>
          <a:blip r:embed="rId1"/>
          <a:stretch/>
        </p:blipFill>
        <p:spPr>
          <a:xfrm>
            <a:off x="685800" y="1447920"/>
            <a:ext cx="2857680" cy="378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gothamschools.org/wp-content/uploads/2008/08/reading-teacher.jpg"/>
          <p:cNvPicPr/>
          <p:nvPr/>
        </p:nvPicPr>
        <p:blipFill>
          <a:blip r:embed="rId2"/>
          <a:stretch/>
        </p:blipFill>
        <p:spPr>
          <a:xfrm>
            <a:off x="3962520" y="1447920"/>
            <a:ext cx="494640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Text Placeholder 3"/>
          <p:cNvSpPr/>
          <p:nvPr/>
        </p:nvSpPr>
        <p:spPr>
          <a:xfrm>
            <a:off x="0" y="5367240"/>
            <a:ext cx="91440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Group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 the treatment or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experiment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iv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O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ment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1143000"/>
          <a:ext cx="8534520" cy="5454720"/>
        </p:xfrm>
        <a:graphic>
          <a:graphicData uri="http://schemas.openxmlformats.org/drawingml/2006/table">
            <a:tbl>
              <a:tblPr/>
              <a:tblGrid>
                <a:gridCol w="1997280"/>
                <a:gridCol w="3692520"/>
                <a:gridCol w="2844720"/>
              </a:tblGrid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ependent 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 that the researcher studies as a possible cause of something else -- in many cases, it is the one that the researcher directly manipulates” (p. 22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he variable that is different or 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changed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between groups. This is often the treatment or intervention.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endent 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variable that is potentially influenced by the independent variable… and so to some extent depends on the independent variable” (p. 22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he variable that is </a:t>
                      </a:r>
                      <a:r>
                        <a:rPr b="0" lang="en-US" sz="2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measured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or thought to be influenced by the independent variabl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ounding 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ys that two or more groups are or might be different in addition to the particular treatment or interventio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When you have more than one independent variabl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7" name="TextBox 5"/>
          <p:cNvSpPr/>
          <p:nvPr/>
        </p:nvSpPr>
        <p:spPr>
          <a:xfrm>
            <a:off x="76320" y="6477120"/>
            <a:ext cx="89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dy, P. D., &amp; Ormrod, J. E. (2010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pper Saddle, NJ: Pearson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441936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variable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item the researcher changed betwee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oups (often it is the treatment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 thought to be influenced by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ependent variable (is measured or observ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unding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ys the groups might be different in addi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the independent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1447920" y="1522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et p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876920" y="2286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3.bp.blogspot.com/_czh5_XwO1Tg/SLT4JhwyaRI/AAAAAAAAAA8/6jEFLaf1EMo/s320/woman+taking+diet+pill.jpg"/>
          <p:cNvPicPr/>
          <p:nvPr/>
        </p:nvPicPr>
        <p:blipFill>
          <a:blip r:embed="rId1"/>
          <a:stretch/>
        </p:blipFill>
        <p:spPr>
          <a:xfrm>
            <a:off x="1523880" y="1523880"/>
            <a:ext cx="2332080" cy="274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3.bp.blogspot.com/_czh5_XwO1Tg/SLT4JhwyaRI/AAAAAAAAAA8/6jEFLaf1EMo/s320/woman+taking+diet+pill.jpg"/>
          <p:cNvPicPr/>
          <p:nvPr/>
        </p:nvPicPr>
        <p:blipFill>
          <a:blip r:embed="rId2"/>
          <a:stretch/>
        </p:blipFill>
        <p:spPr>
          <a:xfrm>
            <a:off x="5075280" y="1550880"/>
            <a:ext cx="2332080" cy="2743200"/>
          </a:xfrm>
          <a:prstGeom prst="rect">
            <a:avLst/>
          </a:prstGeom>
          <a:ln w="0">
            <a:noFill/>
          </a:ln>
        </p:spPr>
      </p:pic>
      <p:sp>
        <p:nvSpPr>
          <p:cNvPr id="83" name="Oval 8"/>
          <p:cNvSpPr/>
          <p:nvPr/>
        </p:nvSpPr>
        <p:spPr>
          <a:xfrm>
            <a:off x="6019920" y="2666880"/>
            <a:ext cx="304560" cy="333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9"/>
          <p:cNvSpPr/>
          <p:nvPr/>
        </p:nvSpPr>
        <p:spPr>
          <a:xfrm flipV="1">
            <a:off x="6095880" y="2716200"/>
            <a:ext cx="184320" cy="262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soc.ucsb.edu/sexinfo/images/05-08-exercise.jpg"/>
          <p:cNvPicPr/>
          <p:nvPr/>
        </p:nvPicPr>
        <p:blipFill>
          <a:blip r:embed="rId3"/>
          <a:stretch/>
        </p:blipFill>
        <p:spPr>
          <a:xfrm>
            <a:off x="152280" y="3048120"/>
            <a:ext cx="1219320" cy="123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3.bp.blogspot.com/_vIyBRfK623E/S_nbVCkz9tI/AAAAAAAAAdU/kTfcasyUkRg/s1600/watching_tv.jpg"/>
          <p:cNvPicPr/>
          <p:nvPr/>
        </p:nvPicPr>
        <p:blipFill>
          <a:blip r:embed="rId4"/>
          <a:stretch/>
        </p:blipFill>
        <p:spPr>
          <a:xfrm>
            <a:off x="7543800" y="3048120"/>
            <a:ext cx="1371600" cy="1279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www.forhealthlylife.com/wp-content/uploads/2010/05/eating-apple.jpg"/>
          <p:cNvPicPr/>
          <p:nvPr/>
        </p:nvPicPr>
        <p:blipFill>
          <a:blip r:embed="rId5"/>
          <a:stretch/>
        </p:blipFill>
        <p:spPr>
          <a:xfrm>
            <a:off x="152280" y="1752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http://www.corbisimages.com/images/572/AA48288E-9FDE-47CF-BE91-47D92E675E68/CB101822.jpg"/>
          <p:cNvPicPr/>
          <p:nvPr/>
        </p:nvPicPr>
        <p:blipFill>
          <a:blip r:embed="rId6"/>
          <a:stretch/>
        </p:blipFill>
        <p:spPr>
          <a:xfrm>
            <a:off x="7696080" y="16002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http://www.seraphicpress.com/images/Scarlet%20letter.jpg"/>
          <p:cNvPicPr/>
          <p:nvPr/>
        </p:nvPicPr>
        <p:blipFill>
          <a:blip r:embed="rId1"/>
          <a:stretch/>
        </p:blipFill>
        <p:spPr>
          <a:xfrm>
            <a:off x="0" y="1828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1371600" y="1522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3581280" y="11916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gothamschools.org/wp-content/uploads/2008/08/reading-teacher.jpg"/>
          <p:cNvPicPr/>
          <p:nvPr/>
        </p:nvPicPr>
        <p:blipFill>
          <a:blip r:embed="rId2"/>
          <a:stretch/>
        </p:blipFill>
        <p:spPr>
          <a:xfrm>
            <a:off x="3886200" y="1371600"/>
            <a:ext cx="368316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www.sptimes.com/2007/05/03/images/large/ASecti_Housep_1584090.jpg"/>
          <p:cNvPicPr/>
          <p:nvPr/>
        </p:nvPicPr>
        <p:blipFill>
          <a:blip r:embed="rId3"/>
          <a:stretch/>
        </p:blipFill>
        <p:spPr>
          <a:xfrm>
            <a:off x="1600200" y="1447920"/>
            <a:ext cx="2016000" cy="2666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www.scholastic.com/iphoneapps/images/clifford_lg.jpg"/>
          <p:cNvPicPr/>
          <p:nvPr/>
        </p:nvPicPr>
        <p:blipFill>
          <a:blip r:embed="rId4"/>
          <a:stretch/>
        </p:blipFill>
        <p:spPr>
          <a:xfrm>
            <a:off x="7696080" y="2209680"/>
            <a:ext cx="1298520" cy="990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434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variable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item the researcher changed betwee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oups (often it is the treatment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able thought to be influenced by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ependent variable (is measured or observ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unding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ys the groups might be different in addi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the independent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ing Confounding Variab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280" y="1066680"/>
          <a:ext cx="8839440" cy="563904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1121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pose: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o maximize internal validity  by ruling out confounding vari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ep some things const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test to assess equiva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 a control 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se participants to all experimental condi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ly assign people to 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cally control for confounding vari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3:01:02Z</dcterms:created>
  <dc:creator>Valued Acer Customer</dc:creator>
  <dc:description/>
  <dc:language>en-US</dc:language>
  <cp:lastModifiedBy>Kathy</cp:lastModifiedBy>
  <dcterms:modified xsi:type="dcterms:W3CDTF">2010-12-19T06:35:45Z</dcterms:modified>
  <cp:revision>101</cp:revision>
  <dc:subject/>
  <dc:title>Slide 1</dc:title>
</cp:coreProperties>
</file>